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gif" ContentType="image/gif"/>
  <Override PartName="/ppt/media/image8.png" ContentType="image/png"/>
  <Override PartName="/ppt/media/image12.wmf" ContentType="image/x-wmf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3EC-5892-409A-9979-B6C5CA19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AD6-BCCC-4491-9177-203E6257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B84-98BB-4A2D-837E-CD73F16D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DBE-19B7-4877-A58F-D64E5E84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4FC-D0A2-4001-B196-0BB1DF3B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0C0-ACCC-4BD3-9828-CCC08772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F68-B969-45E1-906A-4AD22AC7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229-A15F-4209-A09C-A70F2E4B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3D9-44E4-4EDE-A196-B709791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436-3413-4F59-955C-AEB5403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A76-D0CB-475A-B447-AF97B68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3F5-E330-4C9D-830D-7D38FF9C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1357-CFB4-4CCE-8450-6D75FA67D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lagspot.net/images/b/bj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flagspot.net/images/b/bj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flagspot.net/images/b/bj.gif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flagspot.net/images/b/bj.gif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homey or B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e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[Benin flag]">
            <a:hlinkClick r:id="rId1"/>
          </p:cNvPr>
          <p:cNvPicPr/>
          <p:nvPr/>
        </p:nvPicPr>
        <p:blipFill>
          <a:blip r:embed="rId2">
            <a:lum contrast="-24000"/>
          </a:blip>
          <a:stretch/>
        </p:blipFill>
        <p:spPr>
          <a:xfrm>
            <a:off x="0" y="0"/>
            <a:ext cx="308448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[Benin flag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58080" y="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[Benin flag]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58080" y="480060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[Benin flag]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800600"/>
            <a:ext cx="30862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 B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chooling for mor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death r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job opportun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755720" cy="1562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i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of Benin is 116,622                   sq. km. (43,483 sq. mi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ol city is Porto-No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imate is temperatures            between 24 and 31C.                         Humid in south, semiarid in                    the no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[Country Map]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tu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oleum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 bu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m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f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www.hevasof.com/index.htm"/>
          <p:cNvPicPr/>
          <p:nvPr/>
        </p:nvPicPr>
        <p:blipFill>
          <a:blip r:embed="rId1"/>
          <a:stretch/>
        </p:blipFill>
        <p:spPr>
          <a:xfrm>
            <a:off x="958680" y="3581280"/>
            <a:ext cx="2008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8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 6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iland 6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ysia 4.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22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nesia 8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 7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er 5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o 4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eria 4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4.1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50120" y="0"/>
            <a:ext cx="17938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25 original slave traders, known as the Fon, founded the kingdom of Dahomey. In 1892 Dahomey became a French province and part of French West Africa in 190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279864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Even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was gained in 1960 and the country was renamed Benin in 19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62520" y="3352680"/>
            <a:ext cx="45831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Historic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5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- Dahomey is renamed the People's Republic of Ben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2781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B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54440" cy="5570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West Africa Map"/>
          <p:cNvPicPr/>
          <p:nvPr/>
        </p:nvPicPr>
        <p:blipFill>
          <a:blip r:embed="rId2"/>
          <a:stretch/>
        </p:blipFill>
        <p:spPr>
          <a:xfrm>
            <a:off x="228600" y="1828800"/>
            <a:ext cx="41148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s of Ben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place in a framework of a presidential representative democratic republic, whereby the President of Benin is both head of state and head of gover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22800" y="3886200"/>
            <a:ext cx="2275200" cy="2279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1838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2:40:00Z</dcterms:created>
  <dc:creator>carlosjimenez</dc:creator>
  <dc:description/>
  <dc:language>en-US</dc:language>
  <cp:lastModifiedBy>carlosjimenez</cp:lastModifiedBy>
  <dcterms:modified xsi:type="dcterms:W3CDTF">2008-11-10T13:19:15Z</dcterms:modified>
  <cp:revision>6</cp:revision>
  <dc:subject/>
  <dc:title>Benin</dc:title>
</cp:coreProperties>
</file>